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E40-768E-4F2B-B2A3-EE78264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891-0900-435A-B06E-FBC81B2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C25-74D2-49D5-9F22-9ACB1C49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5C7-A0E9-4C1F-B040-5889A5E1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ACD-82EC-4959-93D2-E5C6B0D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E59-DB02-4E74-8B1B-2F7CC392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B24-311E-47BD-A9A1-3F06E121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3BA-00A8-4981-ACAD-695FE218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045-82A0-4B68-9CA4-D05BF58B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85B-83FE-47FE-BB76-D580526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1CF-2E9D-41F2-A7E0-36BD4871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17D-7CF6-42A4-83C5-5C84A3E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DE01-6ADF-4368-868D-1016BB979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DERCRAIG                                CALDERCRAIG  100TH                       CLARKSTON                                CLYDESDALE                                 COATBRIDGE                         COAT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37160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ATBRIDGE  WEST  END                 COATBRIDGE  WEST  END                   DENBEATH                                   GARROWHILL                         GARROWHILL  50TH                        GARTCO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COSH                                          GARTCOSH                                     GARTCOSH                               GARTCOSH  75TH              GARTLOCH  HOSPITAL  100TH           GARTSHER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SHERRIE                                      GARTSHERRIE                              GLENGOWAN                                 GLENGOWAN                                 GLENGOWAN                    GLENGOW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3240" y="-7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58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44880" y="198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976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7240" y="1844640"/>
            <a:ext cx="106056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977240" y="2133720"/>
            <a:ext cx="969840" cy="93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0520" y="3645000"/>
            <a:ext cx="10792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144880" y="3645000"/>
            <a:ext cx="107928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4520" y="36450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5240160" y="3789360"/>
            <a:ext cx="8226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668196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72888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608880" y="5516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7905600" y="537372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804852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631800" y="558972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3513240" y="260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4881600" y="0"/>
            <a:ext cx="1427040" cy="133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46596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2216160" y="333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776124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88880" y="333360"/>
            <a:ext cx="105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30:56Z</dcterms:created>
  <dc:creator>JOHN YOUNG</dc:creator>
  <dc:description/>
  <dc:language>en-US</dc:language>
  <cp:lastModifiedBy>JY</cp:lastModifiedBy>
  <cp:lastPrinted>1999-12-15T20:59:08Z</cp:lastPrinted>
  <dcterms:modified xsi:type="dcterms:W3CDTF">2008-05-20T08:12:41Z</dcterms:modified>
  <cp:revision>29</cp:revision>
  <dc:subject/>
  <dc:title>No Slide Title</dc:title>
</cp:coreProperties>
</file>